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D947-C79D-4E6E-9D0C-D9DF28B77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U Vit. A from beta-carotene: .6 micrograms / pound need 15000 IU / p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U Vit. D from egrocalciferol: .025 micrograms / pound no more than 1500 IU / p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0D9F-5252-46DF-B8A5-1A273D829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330 days a year with 18 hours a day   1644.34 lbs / hour table spread produced  31515 tubs /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F893-C63C-469E-9855-A9ED1FD52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27CD-1CEB-433E-9804-BD0CBB911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496D-5332-4F45-BB99-678E52F6A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FFD0-CA68-4849-8553-986CDAF8F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e line online for 400000 euros, converts to 544680 us doll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7546-E23E-44B9-8BCA-14B04F46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y to see the “flip flop” emulsificatio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C89C-5C9E-462D-BE62-D6B88CE7E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D5E-6D98-46E1-8F80-A15F300B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7EF-A78C-4A4D-9295-98C5DED4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5E0-6677-4BEC-A401-D0326F37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507-A75F-434A-96A9-E8D5F51C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62C-B89D-4417-81F2-7A09E916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977-B251-4B26-A712-859184DC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F06-28FE-4475-8E35-FCF46EB2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D72-89A7-4268-8F92-7ABF4709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DD5-C2DE-4835-BF77-1481EAD4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205-538A-40B9-BE25-A35CF2EE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D2A-B3E0-410A-82F5-8EBB30D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B57-22A5-4D7A-B8D7-86CF5507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1313-A1CD-4D37-B336-3B8C71C0C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762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althy Table Spread from Alga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580360" y="23623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m Alph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934160" y="3124080"/>
            <a:ext cx="26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vis Dal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ic Gr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aquin Martin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 McNin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mune Otterson Mesk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u Sai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333960" cy="2276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1259640" y="502920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rypthecodinium Cohn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in Each Tub Of Table Sprea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.3 grams of algae oil (4.6 grams DH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9.3 grams zero-trans fat oil mixture (interesterfied hardstock, palm, coconut, liquid oi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.7252 grams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058 grams natural sea sa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852 grams natural soy lecith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452.52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 beta-carotene (vitamin A and col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ppm diacetyl (butter flav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13 grams mono and diglycer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426 grams sorbic a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5.2188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 ergocalciferol (vitamin 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ion Rates of AlphaAlgae Table Sprea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4 million tubs of butter /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83.68 tons of table spread /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822168 tons of table spread /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bs / ba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bs / ba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/ d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ble Spread Marketing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ble spreads enjoy a market size of around 5.2 billion dollars /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pread with 1 % of the market would sell around 52 million dollars /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es straight from the plant are around 35 % of the selling price at the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first year, our total table spread sales will then be around 18.2 million doll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food market is increasing very rapid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ncrease will allow for the market share of AlphaAlgae Healthy Spread to increase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Financial Analysi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ased on Whole Foods Market Analy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3880" y="1447920"/>
          <a:ext cx="6248520" cy="3733560"/>
        </p:xfrm>
        <a:graphic>
          <a:graphicData uri="http://schemas.openxmlformats.org/drawingml/2006/table">
            <a:tbl>
              <a:tblPr/>
              <a:tblGrid>
                <a:gridCol w="5021280"/>
                <a:gridCol w="1227240"/>
              </a:tblGrid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Growth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t Income (YTD vs last YT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les (5-year Annual Av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Profit Mar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t Profit Margin (last ye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Year Net Profit Margin (5 year Av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Financial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bt/Equity 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Investment Retur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turn on Equity (5 year Av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turn on Assets (5 year Av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turn on Capital (5year Av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ybean Oil (SB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781.39 tons SBO Hardfat (Cargi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993.72 tons crude SBO (Cargill) at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$867.40/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ining Crude SB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11426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egumming(removal of phospholipi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25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Mix with water and H</a:t>
            </a:r>
            <a:r>
              <a:rPr b="0" lang="en-US" sz="1700" spc="-1" strike="noStrike" baseline="-25000">
                <a:solidFill>
                  <a:srgbClr val="898989"/>
                </a:solidFill>
                <a:latin typeface="Calibri"/>
              </a:rPr>
              <a:t>3</a:t>
            </a: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PO</a:t>
            </a:r>
            <a:r>
              <a:rPr b="0" lang="en-US" sz="1700" spc="-1" strike="noStrike" baseline="-25000">
                <a:solidFill>
                  <a:srgbClr val="898989"/>
                </a:solidFill>
                <a:latin typeface="Calibri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25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Forms a gum, and then centrifuge ou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Removal of free fatty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25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Use NaOH and NaCO</a:t>
            </a:r>
            <a:r>
              <a:rPr b="0" lang="en-US" sz="1700" spc="-1" strike="noStrike" baseline="-25000">
                <a:solidFill>
                  <a:srgbClr val="898989"/>
                </a:solidFill>
                <a:latin typeface="Calibri"/>
              </a:rPr>
              <a:t>3</a:t>
            </a: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 to form soluble in water salts, removed by centrifug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25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Rinse with hot water to remove soapstock, centrifuge ag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25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Soapstock – add H</a:t>
            </a:r>
            <a:r>
              <a:rPr b="0" lang="en-US" sz="1700" spc="-1" strike="noStrike" baseline="-25000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SO</a:t>
            </a:r>
            <a:r>
              <a:rPr b="0" lang="en-US" sz="1700" spc="-1" strike="noStrike" baseline="-25000">
                <a:solidFill>
                  <a:srgbClr val="898989"/>
                </a:solidFill>
                <a:latin typeface="Calibri"/>
              </a:rPr>
              <a:t>4</a:t>
            </a: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 make feedstock for chicke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89898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Bleaching – Filtering with both a Fuller’s Earth filter and activated carbon fil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89898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Deodor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76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Steam distillation under high vacuum and 250-260°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76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Cooled under vacuu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est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xing hardfat with refined S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ing 99% pure Sodium methoxide at 0.4% wt under vacuum at 100°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irring 500rpm for 20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dd DI and citric a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ash with DI to remove so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ried at 110°C for 30 min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Project Deliver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 Ba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ock Flow Dia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cess Flow Dia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terial and Energy Bala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lcul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notated Equipment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conomic Evaluation Factored from Equipment C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.   Conceptual Control Sc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jor Equipment Lay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bution and E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trains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licable Standa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Communication Fi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ormation Sources and Re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d56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Sterilization will be conducted at 121°C for 1 h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and tube heat exchangers will be used for continuous sterilization with s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um components will be mixed and steril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mentor Mass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s: Batch Fermentor with 92,400 Liters of fermentation bro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occulum of 7,000 Liters of seed batch with c cohnii concentration of 20 g dwcells/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3 hours required per bat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erated to 20% Dissolved Oxygen Satu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et Material F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48320" y="1600200"/>
          <a:ext cx="4038480" cy="4578480"/>
        </p:xfrm>
        <a:graphic>
          <a:graphicData uri="http://schemas.openxmlformats.org/drawingml/2006/table">
            <a:tbl>
              <a:tblPr/>
              <a:tblGrid>
                <a:gridCol w="1481040"/>
                <a:gridCol w="1279440"/>
                <a:gridCol w="127800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n 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ucose Used per Ba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Used per Ba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 Salt Used per Ba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 Silicon Anti-fo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ucan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Algae Biom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mentor Energy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rmentation is exothermic and cooling water is required to keep the broth at 27°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rmentor is constructed out of stainless steel with an area of 149.1 sq me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1600200"/>
          <a:ext cx="3962160" cy="1541520"/>
        </p:xfrm>
        <a:graphic>
          <a:graphicData uri="http://schemas.openxmlformats.org/drawingml/2006/table">
            <a:tbl>
              <a:tblPr/>
              <a:tblGrid>
                <a:gridCol w="2428920"/>
                <a:gridCol w="1533240"/>
              </a:tblGrid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bolic Heat Evolution (kJ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219,6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ling Water Required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08,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ae Oil to Table Spr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ugh the table spread market is shrinking, the health food market is increasing at an incredible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phaAlgae Healthy Table Spread will have zero trans-fats, zero animal ingredients (vegan), and no dairy components (kosher), allowing for it to attract a very large group of consum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will be assumed that AlphaAlgae will take 1 % of the table spread market the first year, and will increase every year afterwar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Spread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, the oil phase and the water phase must be prepar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il phase consists of refined, zero trans fat oil mixture, the DHA-rich algae oil, and oil-soluble flavors, golden color, and lecith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ter phase consists of purified water and sea salt, used for both flavor and as a preservati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two phases are mixed together in an emulsion tank with a temperature around 10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°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wo-tank system is called a “flip flop” system.  When one tank is emulsifying, the other tank is undergoing prepara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emulsification then undergoes pasteurization to both kill microbes and to ensure a consistent temperature throughout the spr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followed by cooling and crystallization, creating the final spread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spread is then stored, ready for trans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of a Table Spread Production Lin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Margarine_Line1.jpg"/>
          <p:cNvPicPr/>
          <p:nvPr/>
        </p:nvPicPr>
        <p:blipFill>
          <a:blip r:embed="rId1"/>
          <a:stretch/>
        </p:blipFill>
        <p:spPr>
          <a:xfrm>
            <a:off x="1143000" y="152388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Process Flow Diagram of Table Spread Production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7200" y="1822320"/>
            <a:ext cx="822960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27:31Z</dcterms:created>
  <dc:creator>student2</dc:creator>
  <dc:description/>
  <dc:language>en-US</dc:language>
  <cp:lastModifiedBy>student 12</cp:lastModifiedBy>
  <dcterms:modified xsi:type="dcterms:W3CDTF">2010-02-15T18:36:20Z</dcterms:modified>
  <cp:revision>6</cp:revision>
  <dc:subject/>
  <dc:title>Soybean Oil (SBO)</dc:title>
</cp:coreProperties>
</file>